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0EC-DB0E-4B4B-8BD8-91B1F20B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793-18FE-4B45-88BB-FA2924E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DD1-95F5-4AA0-A64B-39328354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095-E7D4-48A2-88C1-F7233A5A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DDC-06B1-4B5D-82B3-03DE834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8E5-B674-4D02-A97E-E67A307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405-F1BE-4CED-8E06-51363FF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511-EB7A-47A6-A78E-137C3201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1F6-DD12-48F3-BE8D-7436E4D0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BFC-DB1D-475C-8221-311A4B28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022-3289-4681-B872-6345ADC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D53-EEE9-4E7A-B591-69C5BE1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E63A-F40D-4B7C-B167-FD044183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600520" cy="393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and Teloph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2205000"/>
            <a:ext cx="208944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372000" y="1628640"/>
            <a:ext cx="43164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1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661000"/>
            <a:ext cx="54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anselm.edu/homepage/jpitocch/genbio/meiosisphas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ase I begins when the two homologous chromosomes of each bivalent separate and start moving toward opposite poles of the cell as a result of the action of the spindl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in anaphase I the sister chromatids remain attached at their centromeres and move together toward the poles. This is the key difference between mitosis and meiosis after the first meta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256360" cy="252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19280" y="472428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elophase I a haploid set of chromosomes is at each pole, with each chromosome still having two chromatids. A nuclear envelope reforms around each chromosome set, the spindle disappears, and cytokinesis foll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ells that undergo rapid meiosis do not decondense the chromosomes at the end of telophase I and move on to meiosis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896000" cy="23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92360" y="5084640"/>
            <a:ext cx="61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333399"/>
                </a:solidFill>
                <a:uFillTx/>
                <a:latin typeface="Arial"/>
              </a:rPr>
              <a:t>http://www.phschool.com/science/biology_place/biocoach/meiosis/ana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44:46Z</dcterms:created>
  <dc:creator>Your User Name</dc:creator>
  <dc:description/>
  <dc:language>en-US</dc:language>
  <cp:lastModifiedBy>Your User Name</cp:lastModifiedBy>
  <dcterms:modified xsi:type="dcterms:W3CDTF">2007-10-08T09:05:32Z</dcterms:modified>
  <cp:revision>3</cp:revision>
  <dc:subject/>
  <dc:title>Slide 1</dc:title>
</cp:coreProperties>
</file>